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A4B-9BD8-4CE2-A2D3-74931E6A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0E3-C7E2-425C-861B-44B1C9C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0C5-D8A7-47FA-BA01-21004669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E19-1657-4E87-AB9B-3AC84FE1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78D-2F1A-4533-ADEF-23C5AA6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700-BAE9-4661-BA67-4D3E2282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65F-C0D2-4E22-89F0-8F1C3AE6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D28-8FE1-410E-95ED-37BA47E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A9E-3EA6-4A41-9CE2-0879431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251-5F3E-41BE-88FF-D7F45A4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200-E6F7-4392-B2A3-246A365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2A7-2FC3-4166-B563-6CC4E25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CAE-A6B6-4B61-A9DC-6FCB2A1DB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the classes that are needed in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istinguish between composition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guidelines for clas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s: changeRadius, moveUp, moveDown, displayBalloon, display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8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G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Button, downBut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r, text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all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y, rad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Button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Button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r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Up, moveD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Radius, setRad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" y="205740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Balloon page 349, methods page 3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Button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Balloon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pecifica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names –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verbs -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in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shot page 35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berSpace Inv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s: panel, defender, alien, bomb, mouse, l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s:Game, Defender, Alien,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–JPanel class, wall – within class Al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  handled by JFrame or Defend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brar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, Defender, Alien, Laser,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962520"/>
            <a:ext cx="17528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191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3200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105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90920" y="35053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90920" y="411444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4197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441972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 – panel,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– mouseMoved, mouseClicked, action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gam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Graphics pap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Defender defend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Laser las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omb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void newGame (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r = new Defender 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en = new Alien 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.start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ages 352-354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:  timer_Tick( ), mouseClick(…), mouseMoved(…), moveAll( ) { …, drawAll( ) {…, checkHits( ) {…, collides(…) { , endGame(…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ef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, display, getX, getY, getHeight, get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, height, width, x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, move, display, getX, getY, getHeight, get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L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, height, width, width, y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, move, display, getX, getY, getHeight,get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– similar to Laser except bomb only moves down, Laser mov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major decision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program may only need a user interface – then write Java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rge programs – need what classes are needed decisions about  detailed format of a number, position of a button postp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 lot of trial and error fun and creative. Learn good practices and avoid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an effective design approach to programming – fun remains, nuisance part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for re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P provides reuse of software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viously writte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 so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has timer, ram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berspace Invader uses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r Inheri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view of class relationships – the classes that collaborate to achieve required behavior – but – use each other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 – one object creates another ‘new’ like frame creates bu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– one class inherits from another. A user class extends J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’ – inheritance – object o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’ – no inheritance- or consis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k accoun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name, address, account number, current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ccounts – current, depo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week notice required to withdraw –  but account access i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rent account ‘is a’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window ‘has a’ button and a textField = composition not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886200"/>
            <a:ext cx="1905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411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45720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572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L diagram Sp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Sp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y, height,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X, getY, getHeight, get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prite pages 358-359 Sprite calls: Defender, Alien, Laser,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lien page 359 extends Sp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for Bomb page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class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data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arg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lass and method names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ontrive inheritance put shared items in the superclass. Use refactoring (design sometimes evolves toward optimum stru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udy specification and clar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rive objects and methods from nouns and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eneralize objects into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eck if reuse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 programs consist of a collection of objects. Programmer must identify suitable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steps to identify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is needed: simulate real world situations as objects – build software model of things in the re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s office automation system – simulate users, mail, shared documents a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factory automation – simulate different machines, queries of work, orders and deliv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proach – identify the object in the problem to be addressed and model them as objects in th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 to be used. Only model the relevant parts (ignore the irrelevant detai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– a balloon: required – position, size, color (no need for material it is made fro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 employee records system: needed: - name, address, job description (not hobbies or musical interest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objects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oftware specifications – extract information about objects and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nouns (things) – these ar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verbs (doing words) – these ar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for ball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represent a balloon and manipulate it. The balloon is displayed as a circle in a panel. Using buttons, the position of the balloon can be changed by moving it a fixed distance up or down. Using a slider, the radius of the balloon can be altered. The radius is displayed in a text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: GUI, panel, button, slider, text field, balloon, position, distance,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 is provides user interface – class J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l events – mouse clicks on buttons, sl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buttons, slider, textField, pa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y other objects needed – ballo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methods of ballo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 is next major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438280"/>
            <a:ext cx="2057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438280"/>
            <a:ext cx="2133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666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0" y="2170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267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: GUI, JTextField, Bal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6:44:32Z</dcterms:created>
  <dc:creator> </dc:creator>
  <dc:description/>
  <dc:language>en-US</dc:language>
  <cp:lastModifiedBy> </cp:lastModifiedBy>
  <dcterms:modified xsi:type="dcterms:W3CDTF">2005-05-11T13:02:10Z</dcterms:modified>
  <cp:revision>7</cp:revision>
  <dc:subject/>
  <dc:title>Object oriented design Chapter 18</dc:title>
</cp:coreProperties>
</file>